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363C9-A2D9-4C03-9F87-0B4DAC1FB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38E7B-9117-490C-890E-46F9EA452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57251-FC46-4254-84D5-0650533EB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5BB0E-0725-4E56-BDF3-5D0BAC44D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9684C-3A25-4D09-833D-98EB04CF8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6023F-8CF2-4064-AD3E-054A933E4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A9B61-1D2A-438F-8260-A142CDA71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8D1FE-0165-4645-9E4D-2A04B601D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ED7A9-5CF6-4904-8AA4-3A3DCC1FD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134DE-5D0B-41B2-9A01-F9A7097A7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0FD13-17E8-4B8C-BD5A-010F038FF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2296A-5403-4555-BA26-BF31DAABD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F89A4-725B-42D6-9D6C-E039D597E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20947-2CAD-4307-87B2-4C6449ECF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64134-2FFA-4B66-A53A-F180184F8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739A3-1B85-4DDD-9AB4-264E03075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F218A-AF44-4B86-815C-DC4E3C6A8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AF275-E946-4312-92D3-002C2D6EA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27CDD-AB19-4E16-B75E-E0828500F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B7471-DEE4-41C2-8B8E-57CAECBB5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D2DDC-CEAC-4430-93BA-85841B3D4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DB0C5-3A7F-44CB-85D8-3072A4BE0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305BC-83E4-407E-A97B-658DC7885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B3BBC-B948-43D7-9E48-0CEFE9DC4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8C93B-E8CA-48DD-817A-664331CE0E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2EA17-B293-4E0E-89AF-75B2CBEB36D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7200" spc="-1" strike="noStrike">
                <a:solidFill>
                  <a:srgbClr val="ffffff"/>
                </a:solidFill>
                <a:latin typeface="Arial"/>
                <a:ea typeface="標楷體"/>
              </a:rPr>
              <a:t>邏輯問題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86000" y="4696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zh-TW" sz="2800" spc="-1" strike="noStrike">
                <a:solidFill>
                  <a:srgbClr val="ffffff"/>
                </a:solidFill>
                <a:latin typeface="Arial"/>
              </a:rPr>
              <a:t>04213043</a:t>
            </a:r>
            <a:r>
              <a:rPr b="0" lang="zh-TW" sz="2800" spc="-1" strike="noStrike">
                <a:solidFill>
                  <a:srgbClr val="ffffff"/>
                </a:solidFill>
                <a:latin typeface="Arial"/>
              </a:rPr>
              <a:t>喻珮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66760" y="-59040"/>
            <a:ext cx="8229600" cy="8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A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93120" y="941400"/>
            <a:ext cx="34329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因為每句供詞都是謊話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說的第一句話先確定兇手一定在四人之中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由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到富翁家的時候富翁還活著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離開的時候富翁都已經死了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可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前兩個去的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後兩個去的，兇手是第二個或第三個去的人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第一句話可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不是第二個去的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所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第一個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第二個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第一句話可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不是第三個去的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所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第三個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第四個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所以兇手可能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第一句話可知，兇手比他晚去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所以兇手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-49320" y="2208240"/>
            <a:ext cx="456408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Ａ：『我們四人都不是殺害富翁的兇手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　　『我離開富翁家的時候他還活著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Ｂ：『我是第二個到富翁家的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　　『我到富翁家的時候他已經死了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Ｃ：『我是第三個到富翁家的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　　『我離開富翁家的時候他還活著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Ｄ：『兇手不是在我去富翁家之後離開的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　　『我到富翁家的時候他已經死了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8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Q5 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(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與邏輯無關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33320" y="1271520"/>
            <a:ext cx="79534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【葬禮的故事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母親去世了，姐妹倆一個十八歲、一個十二歲，她倆打起精神舉辦葬禮，在葬禮上出現了一個俊帥的男子，是母親友人的兒子，姊姊上前向男子致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喪禮之後一個月，妹妹突然遇害了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為什麼？兇手是誰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47160"/>
            <a:ext cx="82296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A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52560" y="3276720"/>
            <a:ext cx="7493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因為姊姊喜歡那位男子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所以想再辦一次喪禮，就能再見到那位男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7960" y="2712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  <a:ea typeface="新細明體"/>
              </a:rPr>
              <a:t>En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000" spc="-1" strike="noStrike">
                <a:solidFill>
                  <a:srgbClr val="000000"/>
                </a:solidFill>
                <a:latin typeface="Arial"/>
                <a:ea typeface="新細明體"/>
              </a:rPr>
              <a:t>邏輯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26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微軟正黑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傳統上，邏輯被作為哲學的一個分支來研究，和文法與修辭一同被稱為古典三學科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微軟正黑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自十九世紀中葉，「形式邏輯」已被作為數學基礎而被研究，當中經常被稱之為符號邏輯。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1903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年，阿弗烈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·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諾夫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·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懷海德與伯特蘭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·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羅素寫成了《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Principia Mathematica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》，試圖將邏輯形式地建立成數學的基石。不過，後來大部份都被集合論所取代掉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微軟正黑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當對形式邏輯的研究漸漸地擴張了之後，研究也不再只侷限於基礎的議題，之後的各個數學領域被合稱為數理邏輯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微軟正黑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形式邏輯的發展和其在電腦上的應用是電腦科學的基礎。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Q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假設有一個池塘，裡面有無窮多的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現有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個空水壺，容積分別為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如何只用這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個水壺從池塘里取得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的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新細明體"/>
              </a:rPr>
              <a:t>                             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原文網址：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https://kknews.cc/zh-tw/education/kxeoylb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-14760"/>
            <a:ext cx="8229600" cy="9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A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由滿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向空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倒，剩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，把這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倒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空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裡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，然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再把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裝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滿，倒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裡面，由於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裡面有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水，因此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只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能向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倒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水，然後將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剩餘的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再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倒入空的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裡面，再灌滿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向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裡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倒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最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剩餘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7160"/>
            <a:ext cx="82296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Q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有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個人一同去住宿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每個人各出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去支付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0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的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住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宿費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老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說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當天有優惠住宿費只需要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25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就好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就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請小弟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把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退還給她們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小弟心想她們並不知道打折的事情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所以就偷偷把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收起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只退還給她們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個人各拿回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個人各拿回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表示她們各出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9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 x 90 = 27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另外還有小弟拿走的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270 + 20 = 2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00 - 290 = 1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少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請問這個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被誰拿走了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16080" y="-1440"/>
            <a:ext cx="8229600" cy="91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A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43400" y="1665360"/>
            <a:ext cx="3557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273560" y="1679400"/>
            <a:ext cx="46242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講清楚一點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70 + 20 = 290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計算上沒問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但是這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9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去跟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元比是沒有意義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因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中有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元已經順利退還給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人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因此金額的總數就是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0 - 30 = 270 = 3 x 9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元則是包括在這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7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之中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當然不可以用加法加上去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16080" y="1665360"/>
            <a:ext cx="3759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 x 90 = 270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絕對沒有問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70 + 20 = 290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在這裡沒有意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70 - 20 = 2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這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5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才是她們住宿所花的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簡單的說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題目用加法是誤導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減法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才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85680"/>
            <a:ext cx="8229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Q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在數學邏輯問題中，答案都不像題目中看似的那麼簡單，但是我們總能從題目所提供的條件，來找到解答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問題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４＋６＝６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３＋１＝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８＋２＝２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３＋８＝８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那麼，請問１３－３＝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73080"/>
            <a:ext cx="82296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A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026800" y="1655640"/>
            <a:ext cx="6659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4+6=6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也就是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4+6=1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再乘以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=6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+1=4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+1=4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乘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=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8+2=2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8+2=1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乘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2=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+8=88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+8=11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乘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8=8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所以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3-3=1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乘以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-3=-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33440" y="-813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Q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405080" y="946080"/>
            <a:ext cx="70722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一位富翁在自家被殺害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當天只有四個人去過富翁家，而且都是獨自去的，沒有人能幫他們洗清嫌疑，於是警方傳訊了這四個嫌疑人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這四人各自做了兩句供詞，如下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Ａ：『我們四人都不是殺害富翁的兇手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『我離開富翁家的時候他還活著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Ｂ：『我是第二個到富翁家的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『我到富翁家的時候他已經死了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Ｃ：『我是第三個到富翁家的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『我離開富翁家的時候他還活著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Ｄ：『兇手不是在我去富翁家之後離開的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『我到富翁家的時候他已經死了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最後發現其實四人說的每一句都是謊話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你知道到底是誰殺害了富翁嗎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15T18:24:42Z</dcterms:created>
  <dc:creator>User</dc:creator>
  <dc:description/>
  <dc:language>en-US</dc:language>
  <cp:lastModifiedBy/>
  <dcterms:modified xsi:type="dcterms:W3CDTF">2018-05-16T00:14:10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28-9.1.0.4811</vt:lpwstr>
  </property>
</Properties>
</file>